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84FDA-239C-4F09-AD3F-A95D47C31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03721-56AE-4119-B3BA-0AAEC6137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EEACE-CB1D-44C4-8601-2CA1F43E2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DCFFC-C261-4263-9A7F-91A1F7B1E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A57F0-4A7E-49FB-B7B3-1015E5BC6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4A72B-974A-4A15-B471-30AFFD149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BA2EA-E986-4DE1-8531-037BF0D7E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76FCC-8924-4CC4-B595-11CEE7CAA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C1667-7B3A-432F-830E-1B605A11A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73D4F-03D2-4E59-9903-F6CB5CBD0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5BC4-3694-4FD0-A852-E8C55C10D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ACD8-1AB1-4C33-ACC3-13F7939BB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B7367-0D0F-497B-8961-3CEFA82DB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39A23-A46B-44BC-A0E8-60B714354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9A52D-FFA1-40F1-A37F-10A698554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5CF93B-0C86-4116-B9BA-D55E7BBFE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92F20-388B-44FE-9DA0-8D396FDD8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6BC1-32F3-43E1-9592-710040E2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B5B78-B4C8-4A43-ACB1-7A338619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C24E9-0094-4FC5-80DD-271F4D3F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0F258-0149-478B-A795-6AC35C8BD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C3D1-B1BF-4120-8668-E8826CD02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831ED-109A-432E-840A-03D6762D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D962-35E1-4F79-BB4A-2ACE4AFDD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0"/>
            <a:ext cx="17543160" cy="13690440"/>
            <a:chOff x="-8410320" y="0"/>
            <a:chExt cx="17543160" cy="13690440"/>
          </a:xfrm>
        </p:grpSpPr>
        <p:sp>
          <p:nvSpPr>
            <p:cNvPr id="1" name=""/>
            <p:cNvSpPr/>
            <p:nvPr/>
          </p:nvSpPr>
          <p:spPr>
            <a:xfrm>
              <a:off x="5388120" y="158436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4E97-8B64-427B-BFC0-BEB356B9557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 name="">
            <a:hlinkClick r:id="" action="ppaction://hlinkshowjump?jump=previousslide"/>
          </p:cNvPr>
          <p:cNvSpPr/>
          <p:nvPr/>
        </p:nvSpPr>
        <p:spPr>
          <a:xfrm>
            <a:off x="6858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3B5C-00A4-400F-94CB-2F39EE03D2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ala.org/oitp/copyright" TargetMode="External"/><Relationship Id="rId2" Type="http://schemas.openxmlformats.org/officeDocument/2006/relationships/hyperlink" Target="http://www.bham.wednet.edu/" TargetMode="External"/><Relationship Id="rId3" Type="http://schemas.openxmlformats.org/officeDocument/2006/relationships/hyperlink" Target="http://www.bham.wednet.ed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 Can Copy This, Can’t I ?</a:t>
            </a:r>
            <a:endParaRPr b="0" lang="en-US" sz="4400" spc="-1" strike="noStrike">
              <a:solidFill>
                <a:srgbClr val="ffcc66"/>
              </a:solidFill>
              <a:latin typeface="Arial"/>
            </a:endParaRPr>
          </a:p>
        </p:txBody>
      </p:sp>
      <p:sp>
        <p:nvSpPr>
          <p:cNvPr id="90" name="PlaceHolder 2"/>
          <p:cNvSpPr>
            <a:spLocks noGrp="1"/>
          </p:cNvSpPr>
          <p:nvPr>
            <p:ph type="subTitle"/>
          </p:nvPr>
        </p:nvSpPr>
        <p:spPr>
          <a:xfrm>
            <a:off x="3124080" y="1523520"/>
            <a:ext cx="5639040" cy="160020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pyright and Related Issues for Schools</a:t>
            </a:r>
            <a:endParaRPr b="0" lang="en-US" sz="3200" spc="-1" strike="noStrike">
              <a:solidFill>
                <a:srgbClr val="ffffff"/>
              </a:solidFill>
              <a:latin typeface="Times New Roman"/>
            </a:endParaRPr>
          </a:p>
        </p:txBody>
      </p:sp>
      <p:sp>
        <p:nvSpPr>
          <p:cNvPr id="91" name=""/>
          <p:cNvSpPr/>
          <p:nvPr/>
        </p:nvSpPr>
        <p:spPr>
          <a:xfrm>
            <a:off x="762120" y="4191120"/>
            <a:ext cx="3276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iane Leupol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ordinator of Media Servic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Topeka Public School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dleupold@topeka.k12.ks.u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leupold@networksplus.ne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7086960" y="3962520"/>
            <a:ext cx="16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April 3, 200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rmat</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in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diovisual (Public Performanc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ultimedia </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oftw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net</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istance Lear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urpose</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a copy to use personally</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several copies to share</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nterlibrary loa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reservation</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Want to show to a group</a:t>
            </a: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n the scheme of thing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utho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ublisher</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pi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Arial"/>
              </a:rPr>
              <a:t>Issue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Academic Dishonesty - Plagiaris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Technology possibilities – Burning CD’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Cost of doing business – Distance Ed.</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Regulation – Legislation and Court </a:t>
            </a:r>
            <a:r>
              <a:rPr b="0" lang="en-US" sz="3200" spc="-1" strike="noStrike">
                <a:solidFill>
                  <a:srgbClr val="ff0033"/>
                </a:solidFill>
                <a:latin typeface="Arial"/>
              </a:rPr>
              <a:t>	</a:t>
            </a:r>
            <a:r>
              <a:rPr b="0" lang="en-US" sz="3200" spc="-1" strike="noStrike">
                <a:solidFill>
                  <a:srgbClr val="ff0033"/>
                </a:solidFill>
                <a:latin typeface="Arial"/>
              </a:rPr>
              <a:t>Challeng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33"/>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copy this, can’t I?</a:t>
            </a:r>
            <a:endParaRPr b="0" lang="en-US" sz="4400" spc="-1" strike="noStrike">
              <a:solidFill>
                <a:srgbClr val="ffcc66"/>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uff for student research?</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ized music? Vide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ages for my websit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actice test items for my clas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reformat this, can’t I</a:t>
            </a:r>
            <a:endParaRPr b="0" lang="en-US" sz="4400" spc="-1" strike="noStrike">
              <a:solidFill>
                <a:srgbClr val="ffcc66"/>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n audiotape of book text</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 digital copy of a film or pho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 can show this, can’t I?</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rchas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nted videos in the classroom?</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ad a book on local cabl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deo for an all school assembly?</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LMC and “Copyright”</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a:t>
            </a:r>
            <a:r>
              <a:rPr b="0" lang="en-US" sz="3200" spc="-1" strike="noStrike">
                <a:solidFill>
                  <a:srgbClr val="ffcc66"/>
                </a:solidFill>
                <a:latin typeface="Arial"/>
              </a:rPr>
              <a:t>Copyright police”</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chool policies and regulation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eaching ethic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Working with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lected Information Resources</a:t>
            </a:r>
            <a:endParaRPr b="0" lang="en-US" sz="4400" spc="-1" strike="noStrike">
              <a:solidFill>
                <a:srgbClr val="ffcc66"/>
              </a:solidFill>
              <a:latin typeface="Arial"/>
            </a:endParaRPr>
          </a:p>
        </p:txBody>
      </p:sp>
      <p:sp>
        <p:nvSpPr>
          <p:cNvPr id="120"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pyright for Schools:  A Practical Guide</a:t>
            </a:r>
            <a:r>
              <a:rPr b="0" lang="en-US" sz="2800" spc="-1" strike="noStrike">
                <a:solidFill>
                  <a:srgbClr val="ffffff"/>
                </a:solidFill>
                <a:latin typeface="Arial"/>
              </a:rPr>
              <a:t>, Third Ed., by Carol Simpson, Linworth, ISBN 1-58683-018-X</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A’s Washington Office, </a:t>
            </a:r>
            <a:r>
              <a:rPr b="0" lang="en-US" sz="2800" spc="-1" strike="noStrike" u="sng">
                <a:solidFill>
                  <a:srgbClr val="ff0033"/>
                </a:solidFill>
                <a:uFillTx/>
                <a:latin typeface="Arial"/>
                <a:hlinkClick r:id="rId1"/>
              </a:rPr>
              <a:t>www.ala.org/oitp/copyright</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SB policy, www.kansasaccess.org/kasb/policy.html</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dministrative Regulations &amp; Guidelines for Copyright Compliance</a:t>
            </a:r>
            <a:r>
              <a:rPr b="0" lang="en-US" sz="2800" spc="-1" strike="noStrike">
                <a:solidFill>
                  <a:srgbClr val="ffffff"/>
                </a:solidFill>
                <a:latin typeface="Arial"/>
              </a:rPr>
              <a:t>, Lawrence Public Schools</a:t>
            </a:r>
            <a:endParaRPr b="0" lang="en-US" sz="2800" spc="-1" strike="noStrike">
              <a:solidFill>
                <a:srgbClr val="ffffff"/>
              </a:solidFill>
              <a:latin typeface="Times New Roman"/>
            </a:endParaRPr>
          </a:p>
          <a:p>
            <a:pPr marL="322200" indent="-3222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lingham Schools, “District Copyright Web Publishing Rules”, </a:t>
            </a:r>
            <a:r>
              <a:rPr b="0" lang="en-US" sz="2800" spc="-1" strike="noStrike" u="sng">
                <a:solidFill>
                  <a:srgbClr val="ff0033"/>
                </a:solidFill>
                <a:uFillTx/>
                <a:latin typeface="Arial"/>
                <a:hlinkClick r:id="rId2"/>
              </a:rPr>
              <a:t>www.bham.wednet.</a:t>
            </a:r>
            <a:r>
              <a:rPr b="0" lang="en-US" sz="2800" spc="-1" strike="noStrike" u="sng">
                <a:solidFill>
                  <a:srgbClr val="ff0033"/>
                </a:solidFill>
                <a:uFillTx/>
                <a:latin typeface="Arial"/>
                <a:hlinkClick r:id="rId3"/>
              </a:rPr>
              <a:t>ed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ewpoints</a:t>
            </a:r>
            <a:endParaRPr b="0" lang="en-US" sz="4400" spc="-1" strike="noStrike">
              <a:solidFill>
                <a:srgbClr val="ffcc66"/>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gulation</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Law</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Guidelin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urt Interpretation</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chool Board Policy</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Regulat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dministrative Directive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TRACTS and LICEN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09480" y="1295280"/>
            <a:ext cx="8001000" cy="523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copyright laws of the United States make it illegal for anyone to duplicate copyrighted materials without permission.  Severe penalties are provided for unauthorized copying of all materials covered by the act unless the copying falls within the bounds of the "fair use" doctrin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ny duplication of copyrighted materials by district employees must be done with permission of the copyright holder or within the bounds of "fair use", as set forth in 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legal or insurance protection of the district shall not be extended to school employees who violate any provisions of the copyright law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pprov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n accordance with school board policy ECH, the following regulations will be observed to comply with the copyright laws of the United Stat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Under the “fair use” doctrine, unauthorized reproduction of copyrighted materials is permissible for such purposes as criticism, comment, news reporting, teaching, scholarship or research.  If duplicating or altering a product is to fall within the bounds of fair use, these four standards must be met for any of the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Purpose and Character of the Us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The use must be for such purposes as teaching or scholarship and must be nonprofit.  Fair use would probably allow teachers acting on their own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Pri</a:t>
            </a:r>
            <a:r>
              <a:rPr b="1" lang="en-US" sz="1200" spc="-1" strike="noStrike" u="sng">
                <a:solidFill>
                  <a:srgbClr val="ffffff"/>
                </a:solidFill>
                <a:uFillTx/>
                <a:latin typeface="Times New Roman"/>
                <a:ea typeface="Times New Roman"/>
              </a:rPr>
              <a:t>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2</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o copy small portions of work for the classroom but would not allow a school system or an institution to do so.</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The Natur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Copying portions of a news article may fall under fair use but not copying from a workbook designed for a course of stud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br>
              <a:rPr sz="1200"/>
            </a:br>
            <a:endParaRPr b="0" lang="en-US" sz="1200" spc="-1" strike="noStrike">
              <a:solidFill>
                <a:srgbClr val="ffffff"/>
              </a:solidFill>
              <a:latin typeface="Times New Roman"/>
            </a:endParaRPr>
          </a:p>
        </p:txBody>
      </p:sp>
      <p:sp>
        <p:nvSpPr>
          <p:cNvPr id="96" name=""/>
          <p:cNvSpPr/>
          <p:nvPr/>
        </p:nvSpPr>
        <p:spPr>
          <a:xfrm>
            <a:off x="2438280" y="762120"/>
            <a:ext cx="415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KASB Recommended Board Polic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609480" y="304920"/>
            <a:ext cx="8001000" cy="611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Value of the Copyrighted Work</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f resulting economic loss to the copyright holder can be shown, even making a single copy of certain materials is an infringement, and making multiple copies presents the danger of greater penalti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hibi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not make multiple copies of a work for classroom use if it has already been copied for another class in the same institution; make multiple copies of a short poem, article, story, or essay from the same author more than once in a class term or make multiple copies from the same collec-</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3</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ve work or periodical issue more than three times a term; make multiple copies of works more than nine times in the same class term; make a copy of works to take the place of an anthology; and may not make a copy of “consumable” materials, such as workbook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ermitted Pract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teacher may make--for use in scholarly research, in teaching or in preparation for teaching a class--a single copy of the following:  a chapter from a book; an article from a periodical or newspaper; a short story, short essay or short poem (whether or not from a collected work); a chart, graph, diagram, drawing, cartoons or picture from a book, periodical or newspaper; may make (for classroom use only and not to exceed one per student in a class) multiple copies of the following:  a complete poem (if it has fewer than 250 words and is printed on not more than two pages), an excerpt from a prose work (if the excerpt has fewer than 1,000 words or 10 percent of the work, whichever is less) and one chart, graph, diagram, cartoon or picture per book or periodica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brary may, for interlibrary-loan purposes, make up to six copies a year of a periodical published within the last five years, make up to six copies a year of small excerpts from longer works, make copies of unpublished works for purposes of preservation and security and make copies of out-of-print works that cannot be obtained at a fair pric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4</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Guidelines for Off-Air Recording of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Programming for Education Purpose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broadcast program may be recorded off-air simultaneously with broadcast transmission (including simultaneous cable retransmission) and retained for a period not to exceed the first 45 consecutive calendar days after date of recording.  Upon conclusion of such retention period, all off-air recordings must be erased or destroyed immediately.</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used once by individual teachers in the course of relevant teaching activities and repeated once, only when instructional reinforcement is necessary, in classrooms and similar places devoted to instruction within a single building, cluster or campus, as well as in the homes of students receiving formalized home instruction, during</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609480" y="304920"/>
            <a:ext cx="8001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ea typeface="Times New Roman"/>
              </a:rPr>
              <a:t>the first 10 consecutive school days in the 45 calendar day retention period.  “School days” are school session days--not counting weekends, holidays, vacations, examination periods or other scheduled interruptions--within the 45 calendar day retention perio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may be made only at the request of and used by individual teachers and may not be regularly recorded in anticipation of requests.  No broadcast program may be recorded off-air more than once at the request of the same teacher, regardless of the number of times the program may be broadcas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 limited number of copies may be reproduced from each off-air recording to meet the legitimate needs of teachers under these guidelines.  Each</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ECH-R</a:t>
            </a:r>
            <a:r>
              <a:rPr b="1" lang="en-US" sz="1200" spc="-1" strike="noStrike">
                <a:solidFill>
                  <a:srgbClr val="ffffff"/>
                </a:solidFill>
                <a:latin typeface="Times New Roman"/>
                <a:ea typeface="Times New Roman"/>
              </a:rPr>
              <a:t>	</a:t>
            </a:r>
            <a:r>
              <a:rPr b="1" lang="en-US" sz="1200" spc="-1" strike="noStrike" u="sng">
                <a:solidFill>
                  <a:srgbClr val="ffffff"/>
                </a:solidFill>
                <a:uFillTx/>
                <a:latin typeface="Times New Roman"/>
                <a:ea typeface="Times New Roman"/>
              </a:rPr>
              <a:t>Printing and Duplicating Services</a:t>
            </a:r>
            <a:r>
              <a:rPr b="1" lang="en-US" sz="1200" spc="-1" strike="noStrike">
                <a:solidFill>
                  <a:srgbClr val="ffffff"/>
                </a:solidFill>
                <a:latin typeface="Times New Roman"/>
                <a:ea typeface="Times New Roman"/>
              </a:rPr>
              <a:t>	</a:t>
            </a:r>
            <a:r>
              <a:rPr b="1" lang="en-US" sz="1200" spc="-1" strike="noStrike">
                <a:solidFill>
                  <a:srgbClr val="ffffff"/>
                </a:solidFill>
                <a:latin typeface="Times New Roman"/>
                <a:ea typeface="Times New Roman"/>
              </a:rPr>
              <a:t>ECH-R-5</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uch additional copy shall be subject to all provisions governing the original recording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fter the first 10 consecutive school days, off-air recordings may be used up to the end of the 45 calendar day retention period only for evaluation purposes by the teacher, i.e., to determine whether or not to include the broa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ast program in the teaching curriculum.  They may not be used for student exhibition or any other non-evaluation purpose without authorization.</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Off-air recordings need not be used in their entirety, but the recorded programs may not be altered from their original content.  Off-air recordings may not be physically or electronically combined or merged to constitute teaching anthologies or compilations.</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All copies of off-air recordings must include the copyright notice on the broadcast programs as recorded.</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u="sng">
                <a:solidFill>
                  <a:srgbClr val="ffffff"/>
                </a:solidFill>
                <a:uFillTx/>
                <a:latin typeface="Times New Roman"/>
                <a:ea typeface="Times New Roman"/>
              </a:rPr>
              <a:t>Computer Software</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District employees may make a back-up copy of computer programs as permitted by current Federal Law.  Back-up copies may be used for archival purposes only and all archival copies shall be destroyed in the event that continued possession of the computer program should cease to be rightful.</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When software is used on a disk-sharing system, efforts shall be made to secure this software from copying.</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Illegal copies of copyrighted programs shall not be made or used on school equipment.</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KASB. This material may be reproduced for use in the district.  It may not be reproduced, either in whole or in part, in any form whatsoever, to be given, sold or transmitted to any person or entity including but not limited to another school district, organization, company or corporation without written permission from KASB.</a:t>
            </a: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 PERFORMANCE RIGHTS, LICENSE AGREEMEN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ND THE DIGITAL MILLENIUM COPYRIGHT AC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pyright</a:t>
            </a:r>
            <a:r>
              <a:rPr b="0" lang="en-US" sz="1200" spc="-1" strike="noStrike">
                <a:solidFill>
                  <a:srgbClr val="ffffff"/>
                </a:solidFill>
                <a:latin typeface="Arial"/>
                <a:ea typeface="Times New Roman"/>
              </a:rPr>
              <a:t> is a limited monopoly granted by federal law.  It is the exclusive right that protects an author, composer, or programmer from having his or her work duplicated except by permiss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Under current law, the work is automatically copyrighted when it is creat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Sonny Bono Copyright Term Extension Act lengthens copyright protection so that it covers the life of the author plus 70 years.  Works published before 1978 and still covered under copyright are now covered for a term of 95 year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t>
            </a:r>
            <a:r>
              <a:rPr b="1" lang="en-US" sz="1200" spc="-1" strike="noStrike">
                <a:solidFill>
                  <a:srgbClr val="ffffff"/>
                </a:solidFill>
                <a:latin typeface="Arial"/>
                <a:ea typeface="Times New Roman"/>
              </a:rPr>
              <a:t>Fair Use”</a:t>
            </a:r>
            <a:r>
              <a:rPr b="0" lang="en-US" sz="1200" spc="-1" strike="noStrike">
                <a:solidFill>
                  <a:srgbClr val="ffffff"/>
                </a:solidFill>
                <a:latin typeface="Arial"/>
                <a:ea typeface="Times New Roman"/>
              </a:rPr>
              <a:t> is the legal right to copy a limited amount of material under certain conditions without harm to the owner.  Such copying is allowable without obtaining permission from the author.  The “fair use exemptions” provide factors used to determine if intended copying is “fai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urpose and character of the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be nonprofit and educational and personal.</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nature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The work should be factual and published, not imaginativ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amount and substantiality of the portion used in relation to the copyrighted work as a whol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only small amount of original work or small portion of main ideas presented in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effect of the use upon the potential market for or value of the copyrighted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Use should not cause copyright owner to lose mone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Guidelines for “Fair Use” have been developed and vary depending on the format of the copyrighted work.  Copying print materials, music, audiovisual materials, videotapes, off-air and cable broadcasting, computer software, databases and digital information from the Internet are considered copyright issu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457200" y="579600"/>
            <a:ext cx="8229600" cy="55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ublic Performance </a:t>
            </a:r>
            <a:r>
              <a:rPr b="0" lang="en-US" sz="1200" spc="-1" strike="noStrike">
                <a:solidFill>
                  <a:srgbClr val="ffffff"/>
                </a:solidFill>
                <a:latin typeface="Arial"/>
                <a:ea typeface="Times New Roman"/>
              </a:rPr>
              <a:t>is defined as any performance (or showing) of a work in a place open to the public or at any place where a substantial number of persons outside of a normal family or its social acquaintances is gathered.  Classrooms full of students meet the criteria for public performanc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fair use” exemption for performance or display of a work has four requiremen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1.</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presented by instructors or pupils;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2.</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occur in the course of face-to-face teaching activities; an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3.</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take place in a classroom or similar place of instruction in a non-profit educationa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nstitution; an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4.</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performance must be of a legally acquired (or legally copied) copy of the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Classroom or school-wide performance of a work for entertainment or reward is specifically prohibited under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Times New Roman"/>
              </a:rPr>
              <a:t>          “</a:t>
            </a:r>
            <a:r>
              <a:rPr b="0" i="1" lang="en-US" sz="1200" spc="-1" strike="noStrike">
                <a:solidFill>
                  <a:srgbClr val="ffffff"/>
                </a:solidFill>
                <a:latin typeface="Arial"/>
                <a:ea typeface="Times New Roman"/>
              </a:rPr>
              <a:t>fair u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Licenses and Contracts govern the use of works that are not sold, but instead, the use of the work is licensed.  Computer software and some video programs are marketed in this manner.  Terms and conditions of license agreements and contracts supersede copyright in most instan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Signed contracts are legally binding.  “Shrink wrap” and “Click on” agreements are less so, but in th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a:solidFill>
                  <a:srgbClr val="ffffff"/>
                </a:solidFill>
                <a:latin typeface="Arial"/>
                <a:ea typeface="Times New Roman"/>
              </a:rPr>
              <a:t>absence of authority to the contrary, it is assumed that such licenses are binding.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Before copying a work or loading software on more than one computer or a network, the licensing right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          </a:t>
            </a:r>
            <a:r>
              <a:rPr b="1" i="1" lang="en-US" sz="1200" spc="-1" strike="noStrike">
                <a:solidFill>
                  <a:srgbClr val="ffffff"/>
                </a:solidFill>
                <a:latin typeface="Arial"/>
                <a:ea typeface="Times New Roman"/>
              </a:rPr>
              <a:t>to do so should be verifie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457200" y="579600"/>
            <a:ext cx="8229600" cy="57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he Digital Millennium Copyright Act of 1998</a:t>
            </a:r>
            <a:r>
              <a:rPr b="0" lang="en-US" sz="1200" spc="-1" strike="noStrike">
                <a:solidFill>
                  <a:srgbClr val="ffffff"/>
                </a:solidFill>
                <a:latin typeface="Arial"/>
                <a:ea typeface="Times New Roman"/>
              </a:rPr>
              <a:t> implements two 1996 World Intellectual Property Organization treaties and addresses other copyright issues new since 1978.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circumventing technological measures that prevent unauthorized access to a digital work.  It allows the circumvention of technological measures that prevent copying the work if the copying activity meets “fair use” standard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prohibits the removal or alteration of any of the electronic or regular copyright information associated with a work.</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limits copyright infringement liability of online service providers.  In general, schools providing Internet access are not liable for copyright violation initiated by a person using school access.  The school system must not have knowledge of the infringement and must, upon gaining such knowledge, expeditiously take the material down or block access to i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allows libraries and other archives to copy a work into a new format if the original format becomes obsole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he Act stipulates that all copies made under Section 108 of the 1976 Copyright Act [Library Copying] must include the copyright notice as it appears on the original.  If no notice appears, the copy need only include “a legend stating that the work may be protected by copyrigh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eka Public Schools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ibrary Media Servic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ugust 2000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
          <p:cNvSpPr/>
          <p:nvPr/>
        </p:nvSpPr>
        <p:spPr>
          <a:xfrm>
            <a:off x="457200" y="579600"/>
            <a:ext cx="8229600" cy="61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r>
              <a:rPr b="1" lang="en-US" sz="1200" spc="-1" strike="noStrike" u="sng">
                <a:solidFill>
                  <a:srgbClr val="ffffff"/>
                </a:solidFill>
                <a:uFillTx/>
                <a:latin typeface="Arial"/>
                <a:ea typeface="Times New Roman"/>
              </a:rPr>
              <a:t>Warning Concerning Videotaped Programs Without Performance Right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Times New Roman"/>
              </a:rPr>
              <a:t>Copyright Restriction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copyright law of the United States allows for the </a:t>
            </a:r>
            <a:r>
              <a:rPr b="1" lang="en-US" sz="1200" spc="-1" strike="noStrike">
                <a:solidFill>
                  <a:srgbClr val="ffffff"/>
                </a:solidFill>
                <a:latin typeface="Arial"/>
                <a:ea typeface="Times New Roman"/>
              </a:rPr>
              <a:t>use of copyrighted material for which you do not have “performance rights”</a:t>
            </a:r>
            <a:r>
              <a:rPr b="0" lang="en-US" sz="1200" spc="-1" strike="noStrike">
                <a:solidFill>
                  <a:srgbClr val="ffffff"/>
                </a:solidFill>
                <a:latin typeface="Arial"/>
                <a:ea typeface="Times New Roman"/>
              </a:rPr>
              <a:t> to be shown in the classroom.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All of the following requirements must be met in order for the classroom exemption of Section 110(1) to apply.  The requirements ar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be for instructional purposes</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use must occur in a classroom or place of instructional purpos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 teacher and students must be in a face-to-face instructional sit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there must not be payment of any fee or other compens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it must be a lawfully made cop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Performance rights must be specifically granted by the copyright holder.  Most videotaped programs </a:t>
            </a:r>
            <a:r>
              <a:rPr b="0" lang="en-US" sz="1200" spc="-1" strike="noStrike" u="sng">
                <a:solidFill>
                  <a:srgbClr val="ffffff"/>
                </a:solidFill>
                <a:uFillTx/>
                <a:latin typeface="Arial"/>
                <a:ea typeface="Times New Roman"/>
              </a:rPr>
              <a:t>do not have</a:t>
            </a:r>
            <a:r>
              <a:rPr b="0" lang="en-US" sz="1200" spc="-1" strike="noStrike">
                <a:solidFill>
                  <a:srgbClr val="ffffff"/>
                </a:solidFill>
                <a:latin typeface="Arial"/>
                <a:ea typeface="Times New Roman"/>
              </a:rPr>
              <a:t> performance rights granted with the physical tape.  We do not purchase performance rights for the video programs we buy for the Video Library or the individual library media centers.  Video rental stores do not purchase performance rights for the videos they suppl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Video programs taped “off-air” or “off-cable”</a:t>
            </a:r>
            <a:r>
              <a:rPr b="0" lang="en-US" sz="1200" spc="-1" strike="noStrike">
                <a:solidFill>
                  <a:srgbClr val="ffffff"/>
                </a:solidFill>
                <a:latin typeface="Arial"/>
                <a:ea typeface="Times New Roman"/>
              </a:rPr>
              <a:t> may be used once by individual teachers in the course of relevant teaching activities, and repeated once when instructional reinforcement is necessary, in classrooms and similar places devoted to instruction within a single building, cluster or campus, as well as in the homes of students receiving formalized home instruction,</a:t>
            </a:r>
            <a:r>
              <a:rPr b="0" lang="en-US" sz="1200" spc="-1" strike="noStrike" u="sng">
                <a:solidFill>
                  <a:srgbClr val="ffffff"/>
                </a:solidFill>
                <a:uFillTx/>
                <a:latin typeface="Arial"/>
                <a:ea typeface="Times New Roman"/>
              </a:rPr>
              <a:t> during the first ten (10) consecutive school days</a:t>
            </a:r>
            <a:r>
              <a:rPr b="0" lang="en-US" sz="1200" spc="-1" strike="noStrike">
                <a:solidFill>
                  <a:srgbClr val="ffffff"/>
                </a:solidFill>
                <a:latin typeface="Arial"/>
                <a:ea typeface="Times New Roman"/>
              </a:rPr>
              <a:t> in the forty-five (45) day calendar day retention period.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NOTICE:  The copyright law of the United States governs the making of reproductions and the performance of copyrighted material; </a:t>
            </a:r>
            <a:r>
              <a:rPr b="1" lang="en-US" sz="1200" spc="-1" strike="noStrike">
                <a:solidFill>
                  <a:srgbClr val="ffffff"/>
                </a:solidFill>
                <a:latin typeface="Arial"/>
                <a:ea typeface="Times New Roman"/>
              </a:rPr>
              <a:t>the person using the equipment is liable for any copyright infringement.</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2T14:06:33Z</dcterms:created>
  <dc:creator>TPS</dc:creator>
  <dc:description/>
  <dc:language>en-US</dc:language>
  <cp:lastModifiedBy>TPS</cp:lastModifiedBy>
  <dcterms:modified xsi:type="dcterms:W3CDTF">2002-04-02T21:20:14Z</dcterms:modified>
  <cp:revision>3</cp:revision>
  <dc:subject/>
  <dc:title>I Can Copy This, Can’t I ?</dc:title>
</cp:coreProperties>
</file>